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3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C7AB3-6481-472F-991C-6ECE09EB5C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2E70-4942-443A-80A1-D2B9BF647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2960" y="4543560"/>
            <a:ext cx="822312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8083E-7B87-4B4A-A1C2-59D07C9D8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2960" y="454356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6400" y="454356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D592-A67A-4519-94FE-1954EA543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3520" y="159984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2960" y="454356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454356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3520" y="454356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6C6C-9BA9-4810-897E-5CADF5CD78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D2DB-7747-4F13-B32C-530F136A1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A6DC-4E4D-4DC9-AFA3-088FF4F22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C1CF1-7753-4114-92A1-7EEB6C952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1924D-FA91-46B0-8959-144B648B6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2960" y="456840"/>
            <a:ext cx="82231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B1AE-38DE-4165-A648-7B2B1C4CD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2960" y="454356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24BC-D5DD-4942-8812-68E493B90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6400" y="454356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4181-EBC4-44E8-B505-2D924F213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2960" y="4543560"/>
            <a:ext cx="822312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7A81-14FA-41AB-B7C0-C7476C7E9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62320" cy="777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86c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315200"/>
            <a:ext cx="10058400" cy="457200"/>
          </a:xfrm>
          <a:prstGeom prst="rect">
            <a:avLst/>
          </a:prstGeom>
          <a:solidFill>
            <a:srgbClr val="4169e7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2057400" cy="48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360520" y="7405200"/>
            <a:ext cx="5176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770600" y="7394040"/>
            <a:ext cx="12142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0FC41-58CC-47E2-AB41-A653B8D3D54A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90720" y="1143000"/>
            <a:ext cx="822780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ols and Techniques for Reducing Bootup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562720"/>
            <a:ext cx="853452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 Bi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y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AC2D-44E3-497A-8687-042A464DE02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est time measurement 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 the following to /sbin/init or rc.local, or wherever you "finish" boo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Use of "echo" is wasteful, I'll get back to this lat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s produc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ll time since timekeeping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spent in the idle process (process 0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x86 starting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kernel, nfs fs mount, and short RC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time: 4.91 3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ARM start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kernel, flash fs mount, short RC script, some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time: 5.42 1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33560" y="2403360"/>
            <a:ext cx="6000840" cy="44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ho -n "uptime:" ; cat /proc/up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86 user-space init over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X86, /sbin/init is a shell script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unts /proc and /s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unts root filesystem r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es the loopback interface (ifconfig 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/etc/rc.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s syslogd, klogd, telne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‘fre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a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M user-space init over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K has a “real” /sbin/init that processes /etc/init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 runs /etc/init.d/rcS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s /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ured loopback interface (ifconfig 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s 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uches a bunch of files in 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s syslogd, klogd, inetd, t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8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does a ‘sleep 1’ !!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s /dev/dsp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inittab spawns a console g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bseri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ility for watching serial console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run on host machine, not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tures serial output and echo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apply a timestamp to each line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grabserial –t –d /dev/ttyUSB0 –m “Starting kern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bserial Ex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6040" y="1614600"/>
            <a:ext cx="9412200" cy="51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74152] ## Booting image at 10000000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76073]    Image Name:   Linux-2.6.27-00002-g1646475-di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80302]    Image Type:   ARM Linux Kernel Image (uncompre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84842]    Data Size:    1321228 Bytes =  1.3 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87127]    Load Address: 10008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91150]    Entry Point:  10008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92627]    Verifying Checksum ...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4.068948]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4.06926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4.069367] Starting kernel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0.00123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0.001334] Uncompressing Linux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.. done, booting the ker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5.434655] serial console detected.  Disabling virtual termi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5.437749] init started:  BusyBox v0.60.2 (2004.04.16-00:49+0000) mu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call b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5.607621] 3.17 0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5.787597] mount: Mounting /tmpfs on /tmp failed: Invalid arg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6.947394] mknod: /dev/dsp: File ex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7.072378] 4.64 0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8.26823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8.268373] MontaVista(R) Linux(R) Professional Edition 3.1, Preview K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8.29128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8.291381] (none) login: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bserial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n’t put any instrumentation on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n’t slow down target – only consumes host cpu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queues up printk messages during very early 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asure time of kernel bootup events, you have to have kernel messages turn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 will talk about this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t of a pain to inst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bserial is a python program.  It requires the python serial.py module, which is not shipped with python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rnel Measur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k-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call_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rnel Function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k ti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put timestamp on every prin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etter with a good resolution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ctivate (use one of the following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kernel with: CONFIG_PRINTK_TIMES=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time=1” on kernel comman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to turn on dynam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 Y &gt;/sys/module/printk/parameters/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k Times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it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have a laptop (or are reading this presentation on a Linux desktop) try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ho Y &gt;/sys/module/printk/parameters/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plug in a USB stic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me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ee relative times (delta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‘show_delta’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ed in ‘scripts’ directory in Linux sourc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mesg | linux_src/scripts/show_delta /proc/self/fd/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6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K – I should change show_delta to be a filter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45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k Times S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8200" y="1335240"/>
            <a:ext cx="822492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8400" y="1890720"/>
            <a:ext cx="8979120" cy="550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Linux version 2.6.23.17-alp_nl-g679161dd (tbird@crest) (gcc version 4.1.1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CPU: ARM926EJ-S [41069263] revision 3 (ARMv5TEJ), cr=000531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Machine: TI-O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Memory policy: ECC disabled, Data cache write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On node 0 totalpages: 8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  DMA zone: 64 pages used for mem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OMAP GPIO hardware version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MUX: initialized M7_1610_GPIO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MUX: Setting register M7_1610_GPIO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      FUNC_MUX_CTRL_10 (0xfffe1098) = 0x00000000 -&gt; 0x00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      PULL_DWN_CTRL_4 (0xfffe10ac) = 0x00000000 -&gt; 0x01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PID hash table entries: 128 (order: 7, 512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25741] Console: colour dummy device 80x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25999] Dentry cache hash table entries: 4096 (order: 2, 16384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26490] Inode-cache hash table entries: 2048 (order: 1, 8192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2736] Memory: 32MB = 32MB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2832] Memory: 28052KB available (3852K code, 396K data, 124K i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3493] SLUB: Genslabs=22, HWalign=32, Order=0-1, MinObjects=4, CPUs=1, Nodes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3595] Calibrating delay loop (skipped)... 95.64 BogoMIPS p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4196] Mount-cache hash table entries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6419] CPU: Testing write buffer coherency: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47232] NET: Registered protocol family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60679] OMAP DMA hardware vers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60773] DMA capabilities: 000c0000:00000000:01ff:003f:007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68239] USB: hmc 16, usb2 alt 0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904668] SCSI subsystem initial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oot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us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sults /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0B38-2866-4D29-9F1D-F6CFF8D3A1C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45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k Times Note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4560" cy="56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ARM, notice that timestamps are zero until clock is init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X86, timestamps are available immediately since it uses TSC, which is a built-in counter on the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many embedded platforms, you need to fix the clock handling to get good timestamp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ault printk_clock() returns jif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has 4 ms or 10 ms resolution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call sched clock(), but you need to make sure not to call it too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est kernel (2.6.27) uses cpu_clock(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older kernels, I have a patch for some ARM platfo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_to_call_sched_clock.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tcall_debu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ortion of bootup time is spent in ‘initcall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flag already built into the kernel to show initcall information during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boot command line, use: initcall_debug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booting, d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esg -s 256000 | grep "initcall" | sed "s/\(.*\)after\(.*\)/\2 \1/g" | sort -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It’s a good idea to increase the printk log buff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is by increasing LOGBUF_SHIFT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(16K) to 18 (256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tcall_debug Ex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600" y="4395600"/>
            <a:ext cx="8807400" cy="2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7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rout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mouse_init - unused drive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p_system_init -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bios_assign_resources -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hci_hcd_init, uhci_hcd_init - part of USB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8250_init - serial driver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ix_init – IDE disk driver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_auto_config - dhcp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339920"/>
            <a:ext cx="8494560" cy="2954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msecs [    2.237177] initcall acpi_button_init+0x0/0x51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msecs [    0.763503] initcall init_acpi_pm_clocksource+0x0/0x16c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secs [    0.348241] initcall acpi_pci_link_init+0x0/0x43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msecs [    0.919004] initcall inet_init+0x0/0x1c7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msecs [    5.282722] initcall psmouse_init+0x0/0x5e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 msecs [    2.979825] initcall e100_init_module+0x0/0x4d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 msecs [    0.650325] initcall pnp_system_init+0x0/0xf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 msecs [    0.872402] initcall pcibios_assign_resources+0x0/0x85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7 msecs [    4.369187] initcall ehci_hcd_init+0x0/0x70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msecs [    2.777161] initcall serial8250_init+0x0/0x100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3 msecs [    5.098052] initcall uhci_hcd_init+0x0/0xc1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0 msecs [    4.067279] initcall piix_init+0x0/0x27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90 msecs [    8.290606] initcall ip_auto_config+0x0/0xd70 returne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11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rnel Function Trace (KFT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88660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s every kernel function entry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lter by time duration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handy for finding boot latencies in early 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this is a patch that was never main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ttp://elinux.org/Kernel_Function_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like to integrate KFT functionality into ftrace, but haven’t had time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been on my “to do” list 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11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FT Trace Results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3720" y="1484280"/>
            <a:ext cx="941544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  Delta PID         Function                Calle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0   0               start_kernel  L6+0x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   8687   0                 setup_arch  start_kernel+0x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9    891   0               setup_memory  setup_arch+0x2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3    872   0 register_bootmem_low_pages  setup_memory+0x8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4    871   0               free_bootmem  register_bootmem_low_pages+0x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4    871   0          free_bootmem_core  free_bootmem+0x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30   7432   0                paging_init  setup_arch+0x2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35   7427   0            zone_sizes_init  paging_init+0x4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2920" y="4257720"/>
            <a:ext cx="9415440" cy="261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 ~/work/kft/kft/kd -n 30 kftboot-9.l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                Count Time     Average 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 ----- -------- 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_basic_setup                1  1159270  1159270      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_initcalls                  1  1159256  1159256      6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lay                     156   619322     397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lay_tsc                   156   619322     3970   6193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const_udelay              146   608427     4167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_hwif                    8   553972    69246      1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_probe                     31   553025    17839       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de_delay_50ms              103   552588     5364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sapnp_init                   1   383138   383138      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11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-Space Measur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ess trace - Tim’s quick h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ux Trace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otchar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to display a nice diagram of processes in early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a daemon in early i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emon collects information via /proc, and puts it into files in /var/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tool to post-process the collected information, and prepare a ni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G, SVG, or 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t at: http://www.bootchart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4287600" cy="22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otchart Ex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86560" y="185760"/>
            <a:ext cx="2079360" cy="71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412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ce can be used to collect timing information for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ce –tt 2&gt;/tmp/strace.log thttp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to see where time is being spent in application 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collect system call counts (-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e time spent in each system call (-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finding extraneou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Wasteful operations, like scanning invalid paths for files, opening a file multiple tim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ce Ex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1457280"/>
            <a:ext cx="8732880" cy="532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186340 mprotect(0x4001f000, 20480, PROT_READ|PROT_WRITE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00866 mprotect(0x4001f000, 20480, PROT_READ|PROT_EXEC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21679 socketcall(0x1, 0xbe842c70)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35626 fcntl64(3, F_SETFD, FD_CLOEXEC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48718 socketcall(0x3, 0xbe842c70) = -1 EPROTOTYPE (Protocol wrong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sock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64434 close(3)         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86956 socketcall(0x1, 0xbe842c70)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92816 fcntl64(3, F_SETFD, FD_CLOEXEC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305603 socketcall(0x3, 0xbe842c70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327575 brk(0)                  = 0x24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345397 brk(0x25000)            = 0x2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360290 brk(0)                  = 0x2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422485 open("/etc/thttpd/thttpd.conf", O_RDONLY) =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438049 fstat64(4, {st_mode=S_IFREG|0644, st_size=17592186044416, ...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474121 old_mmap(NULL, 4096, PROT_READ|PROT_WRITE, MAP_PRIVATE|MAP_AN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, -1, 0) = 0x40017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490203 read(4, "#-------------------------------"..., 4096) = 1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08544 read(4, "", 4096)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30151 close(4)         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48675 munmap(0x40017000, 4096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61645 open("/etc/localtime", O_RDONLY) = -1 ENOENT (No such file or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85235 open("/etc/thttpd/throttle.conf", O_RDONLY) =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99182 gettimeofday({7, 603149}, NULL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13983 fstat64(4, {st_mode=S_IFREG|0644, st_size=17592186044416, ...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37084 old_mmap(NULL, 4096, PROT_READ|PROT_WRITE, MAP_PRIVATE|MAP_AN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, -1, 0) = 0x40017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50604 read(4, "# thttpd 2.21b\n# Main throttle c"..., 4096) = 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69586 read(4, "", 4096)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91589 close(4)         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708099 munmap(0x40017000, 4096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2636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electronics products require very fast boot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cold boot time for a digital still camera is less than 1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I mention they have crummy, slow processor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must catch the baby smil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97200" y="4357800"/>
            <a:ext cx="214956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ce Miscellaneous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ce can follow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ce adds of overhead to the execu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ings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get counts for a program that doesn’t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meone knows how to do this, let me k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uldn’t figure out how to trace the whole system 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ried replacing /etc/init.d/rcS in /etc/inittab with “strace –f -tt 2&gt;/tmp/strace.log /etc/init.d/rcS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id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Tr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trace = Tim’s own quick-and-dirty tr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chart has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uch overhead for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/proc frequently during 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envisioned a kind of “Bootchart l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printks to fork, exec and exit in the kernel -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a script to process the dmesg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s Trace Example Out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8640" y="1390680"/>
            <a:ext cx="8826480" cy="2571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7.162963] exec: 1 -&gt; /sbin/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189819] fork: 1 -&gt;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203155] exec: 15 -&gt; /etc/init.d/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244598] fork: 15 -&gt;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251708] exec: 16 -&gt; /bin/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00262] exit: 16 - real 0.056 user 0.007 sys 0.039 nonrun 0.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02429] fork: 15 -&gt;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09509] exec: 17 -&gt; /bin/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31481] exit: 17 - real 0.029 user 0.007 sys 0.015 nonrun 0.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33312] fork: 15 -&gt;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40362] exec: 18 -&gt; /bin/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464355] exit: 14 - real 1.481 user 0.000 sys 0.390 nonrun 1.0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464752] fork: 18 -&gt;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466979] exit: 18 - real 0.134 user 0.015 sys 0.007 nonrun 0.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120" y="4591080"/>
            <a:ext cx="882648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Pid  Pid   Program                  Start    Duration Active   I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 ----- --------------------- -------- -------- 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1            /sbin/init    0.000    0.000    0.000    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2               unknown    0.000    0.000    0.000    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3              unknown*    0.000    0.000    0.000    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23            /bin/touch   38.644    0.106    0.014    0.0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31       /usr/sbin/inetd   39.216    0.122    0.046    0.0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18            /bin/mount   38.333    0.134    0.022    0.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25            /bin/touch   38.775    0.228    0.116    0.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4       [worker_thread]   36.983    1.482    0.390    1.0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5       /etc/init.d/rcS   38.190   33.367    0.116   33.2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9040" y="3949560"/>
            <a:ext cx="8932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3440" y="4238640"/>
            <a:ext cx="886428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spcBef>
                <a:spcPts val="12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: “linux_src/scripts/procgraph –s d /target/tmp/bootprocs.ms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Trace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graph’ script is badly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n’t produce a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intended to copy Arjan’s bootgraph program, but didn’t hav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finished sometime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oesn’t replace bootchart, since it doesn’t show cpu or I/O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ood enough to find som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unexpected fork and ex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ux Trace Toolk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nice tool for tracing “major” system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showing process startup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out-of-mainline for many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ttp://ltt.polymtl.c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11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Trace 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_boot (being worked on right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process trace, but more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es process schedule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astboot git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earch for "fastboot" subject lines on LK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kernel loadable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odule insertion (user space must be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easy to write a process trace tap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ques for Reducing Bootup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Techniques for the Kern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Techniques for the Kern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t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 unused drivers an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red module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prob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ystem tr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c init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et conso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spends significant time outputing chars to serial port during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liminate with simple runtim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“quiet” to kernel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avings: 1.32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savings: 0.4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till see all messages after booting with ‘dmes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also affect VGA console, but I haven’t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view of Boot Pha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3800" y="1388880"/>
            <a:ext cx="822348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mware (bootloader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ware pro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ware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rnel load and de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init (start_kernel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er init (initcalls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-space 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sbin/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C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phics start (First Impression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load and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iminate Unused Featu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fastest code is the code you don’t run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kernel defconfigs include lots of features not needed in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ry to include all features of a platform o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eliminate as much as possible from kernel using CONFI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elps two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the amount of initialization in the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the kernel size, which reduces the time it takes the bootloader to load the kernel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ook at Linux-tiny pages for ideas of things you can safely eli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use initcall_debug to see lots of modules you probably don’t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Unused Fea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that CONFIG_HOTPLUG was turned on in the X86 def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ing my X86 machine with Linux v2.6.27, there are 809 calls to execve /sbin/hotplug, during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eliminated these by turning CONFIG_HOTPLUG=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savings: 1.3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erred module initi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red module 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drivers as modules, and insmod after main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red init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ally link modules (CONFIG_FOO=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odule init routine to be run later,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rigger for deferred initcalls, after main boot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 is available to provide support for this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erred initcall Howt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modules that are not required for core functionality of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SB on a camera – uhci_hcd_usb, ehci_hcd_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odule init routine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_init(foo_init)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red_module_init(foo_i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marked like this are not initialized during kernel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in init,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 1 &gt;/proc/deferred_init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 initcalls ar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.init section memory is freed by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deferred_module_init() (USB module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2960" y="1877760"/>
            <a:ext cx="8223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deferred_module_init()  on ehci_hcd_init and uhci_hcd_i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_init(ehci_hcd_init)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_modle_init(echi_hcd_in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change for uhci_hcd_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savings: 530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deferred_module_init() (piix_init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2960" y="1773360"/>
            <a:ext cx="854208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deferred_module_init(piix_i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savings: 670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avings from just these three deferred_module_init()s = 1.2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e Prob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probe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ften reduce probe delay on know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DE probe, especially for flash devices masquerading as IDE block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kes no sense to wait 50 milliseconds for the disk to respond on a solid stat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probes for non-existent hard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kernel command line options for drivers you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, IDE, PCI,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operational parameters directly to driver, which causes driver to bypass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Documentation/kernel-parameters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ducing Probing Dela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LPJ – nex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delays for IP autoconf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ng device parameters from firm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t-lpj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calibrate “loops_per_jiff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pecify the value for lpj on kernel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ypasses the runtime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time is saved depends on platform, CPU speed, HZ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savings: 192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avings: 19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t-lpj howt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75484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n 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rget (example on AR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dmesg | grep -A 2 Bogo &gt;/tmp/boot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hos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kernel command line: "lpj=478208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im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4960" y="3373560"/>
            <a:ext cx="8853480" cy="1019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 linux/scripts/show_delta /target/osk/tmp/boot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5.833569 &lt; 715.833569 &gt;] Calibrating delay loop... 95.64 BogoMIPS (lpj=4782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6.025733 &lt; 0.192164 &gt;] Mount-cache hash table entries: 5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6.027787 &lt; 0.002054 &gt;] CPU: Testing write buffer coherency: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0800" y="5792760"/>
            <a:ext cx="9237600" cy="74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5.833595 &lt; 715.833595 &gt;] Calibrating delay loop (skipped)... 95.64 BogoMIPS p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5.834196 &lt; 0.000601 &gt;] Mount-cache hash table entries: 5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5.836419 &lt; 0.002223 &gt;] CPU: Testing write buffer coherency: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3640" y="3684600"/>
            <a:ext cx="16794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95480" y="5897520"/>
            <a:ext cx="167976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20080" y="3475080"/>
            <a:ext cx="1679400" cy="42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hardw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d x86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86 - Intel Celeron processor, running at 2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8 meg. of RAM and a 40G IDE hard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2.6.27-rc7 from kerne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y distribution (CELinux) for x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initcall and uptime timings are with NFS-root 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DE is present (probed and detected) but not moun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ed at 4.91 seconds of uptime, at first shell prom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ing Network Delay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44848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finding a bogus delay and shorten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mainline code has to work with every conceivable crummy piece of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s are often too long for specific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 on next page shows reduction in delay for IP autoconf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avings: 1.4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673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ch to Reduce Network Dela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1889280"/>
            <a:ext cx="8853480" cy="5233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 --git a/net/ipv4/ipconfig.c b/net/ipv4/ipconfig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42065ff..e42d83f 1006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 a/net/ipv4/ipconfig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++ b/net/ipv4/ipconfig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86,8 +86,10 @@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efine the friendly delay before and after opening net device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#define CONF_PRE_OPEN          500     /* Before opening: 1/2 secon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#define CONF_POST_OPEN         1       /* After opening: 1 secon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/*#define CONF_PRE_OPEN                500     /* Before opening: 1/2 secon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/*#define CONF_POST_OPEN               1       /* After opening: 1 secon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#define CONF_PRE_OPEN          5       /* Before opening: 5 milli second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#define CONF_POST_OPEN         10      /* After opening: 10 milli second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efine the timeout for waiting for a DHCP/BOOTP/RARP reply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CONF_OPEN_RETRIES      2       /* (Re)open devices twi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1292,7 +1294,7 @@ static int __init ip_auto_config(vo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ive drivers a chance to settl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      ssleep(CONF_POST_OP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msleep(CONF_POST_OP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If the config information is insufficient (e.g., our IP address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ssing Device Params from Firmw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irmware initialize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sometimes do it faster because it doesn’t probe so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irmware pass information to kernel, for kernel driver to avoid probing and initializing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y used this in “snapshot boo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very firmware and hardware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unt on mainlining 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tree does this in a general way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esystem Tri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filesystem into read-only portion and read/write 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file systems mount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 filesystem fas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se UB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_JFFS2_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esystem Mount Time Compari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lide stolen shamelessly from Michael Opdenacker’s presentation comparing flash file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FFS2 mount of 8M filesystem partition is over 1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FS mount of 8M partition is under .2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shfs mount of 8M partition is under 50 milliseconds (it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esystem Mount Time Compari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lide stolen shamelessly from Michael Opdenacker’s presentation comparing flash file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FFS2 mount of 8M filesystem partition is over 1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FS mount of 8M partition is under .2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shfs mount of 8M partition is under 50 milliseconds (it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4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ync initca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an Van de Ven wrote a system to allow aynchronous calling of init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initcalls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es were put into fastboot.g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patch was rejected for 2.6.28 merge – Linus didn’t lik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o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of story: Likely there will be some new async capabilities for module initialization sometime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Techniq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User-sp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Techniques for User-sp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user-space i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ustom 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 RC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uiltins with busybox 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In Place (X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custom in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use busybox ‘init’ program instead of full-blown ‘ini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already doing this, but good thing t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xecutes /sbin/init by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on kernel command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his sometime:   “init=/bin/s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/sbin/init be a shel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gin prompt, no gett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better, make it a compile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preter at bo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Hardware (2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d ARM Eval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K - OMAP 5912 at 192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2 meg. RAM and 32 meg. of NOR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aVista distribution (3.1 preview kit) for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2.6.23.17 (with patche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tests done with Linux 2.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at uptime: 5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after RC scripts, but before first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actor RC scrip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must use RC scripts, at least take out the j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‘set –x’ to see all commands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onditional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 unneeded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echo of comple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ub-processes in parallel so that idle and busy portions of applications can inter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load order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builtins with busybox as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versions of busybox did fork and exec for commands from shel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Echo “foo” – overhead 33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busybox has support to execute echo, test and ‘[‘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ands are in the same 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instantiate another instance of busybox for these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race will tell you if you are exec’ing ‘echo’ or ‘[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x this, use latest busybox and set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ybox 1.10 has (in shell/Config.i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_ASH_BUILTIN_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_ASH_BUILTIN_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ahea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system is doing other stuff, read blocks that will soon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rjan’s testing, Readahead cut boot time from 7 seconds to 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eadahead code is now included in moblin, I’m 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mobl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lin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ortion of application initialization time is spent resolving symbols to dynamic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duce the time spent during dynamic 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link on applications to reduce link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ported 30% reduction in application load time, p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IP = Execute In Pl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67384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XIP reduces bootload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XIP is to reduce application load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lash filesystem: AX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Jared Hulbert’s presentation and YouTube videos from 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ls.fedoraproject.org/OLS/Reprints-2008/hulbert-reprint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fu6Yj7iK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HUqFrA4FY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al 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final boo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space init complete: .9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final boo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space init complete: 3.2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y rec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kernel boot (to userspace) in 110 milliseconds on a 192 MHZ ARM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cond boot i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, of course, on your application initializ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able to boot embedded kernel in under 1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a lot of elbow grease, but it’s getting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an Van de Ven’s talk at L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C: Booting Linux in 5 Seco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80000"/>
              </a:lnSpc>
              <a:spcAft>
                <a:spcPts val="575"/>
              </a:spcAft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wn.net/Articles/2994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astboot git tr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's in fastboot.git for 2.6.28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80000"/>
              </a:lnSpc>
              <a:spcAft>
                <a:spcPts val="575"/>
              </a:spcAft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wn.net/Articles/29959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Hallinan's talk at MV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nux wiki – Boot Time development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ff for this pres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80000"/>
              </a:lnSpc>
              <a:spcAft>
                <a:spcPts val="850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linux.org/Tims_Fastboot_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Instru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2636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important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 and fi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wor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blems first, or you just end up wasting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2278080"/>
            <a:ext cx="8042040" cy="1020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25520" indent="-21600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Premature optimization is the root of all e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- Donald Kn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2636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-w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time (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b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tk-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call_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spac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t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trace - Tim’s quick h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 Trace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8-11-08T05:56:44Z</dcterms:modified>
  <cp:revision>20</cp:revision>
  <dc:subject/>
  <dc:title>Slide 1</dc:title>
</cp:coreProperties>
</file>